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0B5-126D-49B8-8387-671AC7FF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3E7-891B-4910-B33D-34E5FFAC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7CB-56AE-4708-A7C4-2A352DB8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9F6-4626-453A-AB77-24CDC94F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3568-88CC-44C2-9C01-043B3EE4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CA0A-AEBE-49A4-A60E-AB6C624A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21FD-1A18-4D71-9042-D06780E9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6D42-1FC1-4E1B-AF2F-FDCB044F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4BAF-1456-407E-B32C-A9BB2DA0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868F-287F-4E21-8CE2-7499B1EB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6D9B-B23B-482B-A8D5-3140480B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4F4-2837-4A43-8A62-3A84084D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B3F7-FBA2-4E44-872E-0090B595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A4EC-0EE9-4B30-A697-E21DCF11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4B56-A109-494E-8A7B-0F687CCD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F52F-CAF9-4EB4-801D-73BE40D1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3378-5F87-4D6A-80EF-DAAC29FB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745-B49D-4F70-8495-A904E81C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501-BE89-48B9-A703-D59D3A7F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F16-D158-44D8-B5CF-39B5A15B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9ED-C182-41E4-8059-B2887523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57B-468F-427D-9CD1-AFA82FF4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760-EFCD-4993-8BE1-C577A14F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BD4-8C43-4DA5-88F0-808C79E0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4555-413D-4102-B3F8-3E5B29B0C82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67B7-6D7C-4FAC-A2C1-791B780F73C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roadway"/>
              </a:rPr>
              <a:t>CHARACTER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character is a person or other figure that is part of a sto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59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a Character is Develop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e are five basic ways in which a writer reveals what a character is lik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RECT CHARACTERIZ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writer states directly what the character is like.                          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:  Anna was small and fragile looking, but she had immense courage and independe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INDIRECT CHARACTERIZATIO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writer gives the actual speech of the characte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:  “I’m afraid, but I’ll do it anyway,” said Ann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bc5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The writer reveals what the character is thinking and feeling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:  As the cold water of the lake wrapped around her legs, Anna trembled at the memory of last summer’s accide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695628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bc5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The writer tells about the character’s actions.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:  With determined effort, Anna managed to get the rowboat into the lake and clamber aboar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bc5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The writer tells how other characters respond to the charac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:  Beth watched from the shore, knowing it was impossible to stop Anna once she had decided to do something.  “She’s so stubborn!” Beth though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23:07:54Z</dcterms:created>
  <dc:creator>nbdoe</dc:creator>
  <dc:description/>
  <dc:language>en-US</dc:language>
  <cp:lastModifiedBy>nbdoe</cp:lastModifiedBy>
  <dcterms:modified xsi:type="dcterms:W3CDTF">2007-10-10T22:19:04Z</dcterms:modified>
  <cp:revision>3</cp:revision>
  <dc:subject/>
  <dc:title>CHARACTER</dc:title>
</cp:coreProperties>
</file>